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FC42-9ABC-413F-B4E1-349E837CE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E860-A3AB-4FD0-B694-0809B494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0480-A1F0-4CDC-917D-A20BCF51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4CB0-88E9-4524-88F2-F79705E57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A110-591D-42D1-BE41-8CDCB88A4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F78B-F7AE-47C4-AFA2-4E55FB3D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F0D3-F6BA-472F-B8A3-F30AE5D2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0B77-621E-4F3F-A17C-055D2EF9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B69D-8DEB-443E-AE1F-E2C811A6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BEB3-9DBF-49C4-B2EE-EE8DF517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D283-734A-4940-A40C-CDE307E4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1C01-8314-43E5-B0CB-B619CA83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6BC7-5D2F-4F54-BCE9-C222610F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FE60-4067-4AE4-AC1A-1A8977E6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302C-D2F7-4F94-8310-71AAE36F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86FA-C1E1-41CE-8C40-38065C459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191E-8883-4C86-AB17-6EE89D3E7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4839-DB7D-498E-A31D-1F66B649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55EB-FEDC-43BE-9295-894AA24A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DD3C-A551-453C-8CE3-FFCADC52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B626-9516-4389-B49C-13A7EC1E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349D-6FA0-4565-B339-078D14A0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53BE-646A-400D-933A-2D33AC5D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ABA3-DD4B-4099-AC8B-4900F9CF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16FE-7965-42D7-BA8A-9DCE6D12CB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9FC4-D95F-42E1-83D1-0838299EB0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Preparation of the Body</a:t>
            </a:r>
            <a:br>
              <a:rPr sz="4400"/>
            </a:br>
            <a:br>
              <a:rPr sz="4400"/>
            </a:b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Methods of gathering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Lesson 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Tuesday 25</a:t>
            </a:r>
            <a:r>
              <a:rPr b="1" lang="en-GB" sz="40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 Augu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reparation of the bo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omework due: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uesday 1</a:t>
            </a:r>
            <a:r>
              <a:rPr b="1" lang="en-GB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Septe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swer the following question on A4 pa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an activity of your choice, select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wo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spects of fitness which are important to your performance. Explain why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ac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spect of fitness is important.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4 mark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scribe in detail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you used to assess your fitness in a chosen activity. Explain why this method was appropri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4 mark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Period starter….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me and define all 6 aspects of physical fit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st 3 reasons why CRE and SPEED are important for a hockey midfiel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me 3 aspects of skill-related and mental fit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oose 1 aspect of skill-related and mental fitness and explain it’s importance to hoc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me 2 methods of gathering information used in hoc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Match analysis schedu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What does this give you information 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How is a match analysis complet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What do we do nex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651640" y="4365720"/>
            <a:ext cx="25905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Standardised te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ext step for us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ulti stage fitness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30m shuttle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llinois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What do these tests give you information abou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Methods of gathering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scuss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th a partner list as many reasons as you can, why match analysis schedules and standardised tests are appropriate to use in hocke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ou have 5 mins to complete this task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Methods of gathering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u="sng">
                <a:solidFill>
                  <a:srgbClr val="ffffff"/>
                </a:solidFill>
                <a:uFillTx/>
                <a:latin typeface="Comic Sans MS"/>
              </a:rPr>
              <a:t>Why are methods of gathering information appropriat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Gives initial data on whole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Gives a permanent record of a performance (you can compa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e can use the same schedule again to re-evaluate and as a compari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Gathered in a performance situation – gives true ref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f used with video analysis we can rewind, pause, freeze frame 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Methods of gathering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o identify times when the level of performance in the game was low and w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an be compared to national aver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o identify weaknesses that could be impro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o show how you performed in attack and def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You can use info to create a programme of work that will improve weakn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Methods of gathering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as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ad pages 12 – 15 in the booklet and complete page 1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reparation of the bo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echnology Time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og on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http://higher-pe.wikispace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5T08:14:35Z</dcterms:created>
  <dc:creator>FlemingC1</dc:creator>
  <dc:description/>
  <dc:language>en-US</dc:language>
  <cp:lastModifiedBy>FlemingC1</cp:lastModifiedBy>
  <dcterms:modified xsi:type="dcterms:W3CDTF">2009-08-25T08:38:51Z</dcterms:modified>
  <cp:revision>3</cp:revision>
  <dc:subject/>
  <dc:title>Preparation of the Body  Methods of gathering information</dc:title>
</cp:coreProperties>
</file>